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29F-9240-4299-BE25-9CBDA5173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9418-CB6C-47A4-B1BB-821EB2988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BC7-924C-42C9-9FDB-8BE147C2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2DE-2145-436E-B5B3-9275F5B3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01B-E4CD-47AD-9F29-206C5944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9DD-DE08-4218-9C75-76247FA2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8FB-3072-4D9E-80DF-70EB13C6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BE5-CEB9-445F-8E96-C76ED1FD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0C4-5D83-4C6B-BAAB-F76CECB1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BB8-101F-4A15-BD03-609DE2DD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16E-8488-4070-AC82-2FBC7B34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BC4-7A81-4AA7-A722-C103A03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0CB-B120-46E6-BAB0-ECC82E2E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F85-BDB6-4CDB-91C4-97426BB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3BD6-BD3F-41BA-9004-76D15CE48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Polo Tournament in Shandur, Pakistan Photo"/>
          <p:cNvPicPr/>
          <p:nvPr/>
        </p:nvPicPr>
        <p:blipFill>
          <a:blip r:embed="rId1"/>
          <a:stretch/>
        </p:blipFill>
        <p:spPr>
          <a:xfrm>
            <a:off x="-19080" y="2651040"/>
            <a:ext cx="2476440" cy="2244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2819520" y="0"/>
            <a:ext cx="3657600" cy="39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estyle Script"/>
              </a:rPr>
              <a:t>Pakis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eestyle Script"/>
              </a:rPr>
              <a:t>Description : In 1947, as British rule came to an end in India, Pakistan was created when the Muslim-dominated parts of India (</a:t>
            </a:r>
            <a:r>
              <a:rPr b="0" i="1" lang="en-US" sz="2400" spc="-1" strike="noStrike">
                <a:solidFill>
                  <a:srgbClr val="000000"/>
                </a:solidFill>
                <a:latin typeface="Freestyle Script"/>
              </a:rPr>
              <a:t>to the west and east</a:t>
            </a:r>
            <a:r>
              <a:rPr b="0" lang="en-US" sz="2400" spc="-1" strike="noStrike">
                <a:solidFill>
                  <a:srgbClr val="000000"/>
                </a:solidFill>
                <a:latin typeface="Freestyle Script"/>
              </a:rPr>
              <a:t>) of Hindu India, were given aut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286000" y="2666880"/>
            <a:ext cx="4267080" cy="2288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 Islama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Ur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 Islam 97% and Christian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49.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 Land, Coal, Salt,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0" y="6488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Flag of 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6" descr=""/>
          <p:cNvPicPr/>
          <p:nvPr/>
        </p:nvPicPr>
        <p:blipFill>
          <a:blip r:embed="rId2"/>
          <a:stretch/>
        </p:blipFill>
        <p:spPr>
          <a:xfrm>
            <a:off x="73080" y="2432160"/>
            <a:ext cx="2225520" cy="671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6629400" y="2819520"/>
            <a:ext cx="2057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odoni MT Black"/>
              </a:rPr>
              <a:t>Badshahi Mo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705720" y="6248520"/>
            <a:ext cx="2057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Britannic Bold"/>
              </a:rPr>
              <a:t>Vegetable S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Color Map of Pakistan"/>
          <p:cNvPicPr/>
          <p:nvPr/>
        </p:nvPicPr>
        <p:blipFill>
          <a:blip r:embed="rId3"/>
          <a:stretch/>
        </p:blipFill>
        <p:spPr>
          <a:xfrm>
            <a:off x="-6480" y="-6480"/>
            <a:ext cx="2749680" cy="2451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Map of Pakistan, Southwest Asia"/>
          <p:cNvPicPr/>
          <p:nvPr/>
        </p:nvPicPr>
        <p:blipFill>
          <a:blip r:embed="rId4"/>
          <a:srcRect l="66416" t="40847" r="19497" b="27931"/>
          <a:stretch/>
        </p:blipFill>
        <p:spPr>
          <a:xfrm>
            <a:off x="6629400" y="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Flag of Pakistan"/>
          <p:cNvPicPr/>
          <p:nvPr/>
        </p:nvPicPr>
        <p:blipFill>
          <a:blip r:embed="rId5"/>
          <a:stretch/>
        </p:blipFill>
        <p:spPr>
          <a:xfrm>
            <a:off x="225360" y="4395960"/>
            <a:ext cx="2749680" cy="2346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4"/>
          <p:cNvSpPr/>
          <p:nvPr/>
        </p:nvSpPr>
        <p:spPr>
          <a:xfrm>
            <a:off x="3352680" y="6400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Alyss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Badshahi Mosque, Pakistan Photo"/>
          <p:cNvPicPr/>
          <p:nvPr/>
        </p:nvPicPr>
        <p:blipFill>
          <a:blip r:embed="rId6"/>
          <a:stretch/>
        </p:blipFill>
        <p:spPr>
          <a:xfrm>
            <a:off x="6473880" y="3193920"/>
            <a:ext cx="2444760" cy="161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Vegetable Seller, Pakistan Photo"/>
          <p:cNvPicPr/>
          <p:nvPr/>
        </p:nvPicPr>
        <p:blipFill>
          <a:blip r:embed="rId7"/>
          <a:stretch/>
        </p:blipFill>
        <p:spPr>
          <a:xfrm>
            <a:off x="6705720" y="4648320"/>
            <a:ext cx="24382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10T14:58:58Z</dcterms:modified>
  <cp:revision>22</cp:revision>
  <dc:subject/>
  <dc:title>Slide 1</dc:title>
</cp:coreProperties>
</file>